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8F8-BC89-4E4C-A80B-F1E1F2B6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901-C051-4CCF-8FE5-8CC415F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133-25FE-4E69-AC2B-BFE1616E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5DF-A6CC-40A8-AFC6-46139A22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C102-D0A6-4910-B4F7-84567450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DF50-9726-401F-951E-40DD5F5C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82FC-61C4-4F8F-BF09-118E5FB9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5737-3DF3-4A73-BDE5-587D053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7C6-734C-4645-A05D-CACCA499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292-2A46-4659-804B-CCBF96A3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A152-BCE3-4FC2-B367-2B906BE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AA7-0F41-41D0-BD95-6E864B24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AC1B-6C54-4730-8C2A-A9491B6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0092-817A-4009-A828-6B1B825E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82A-6DB9-4065-8FD9-DC328BD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727D-C2E5-4736-987D-1D2F1A3E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CC3-F274-409D-8142-15AFFF2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F08-A5D2-4FAA-A5A2-C08EC444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052-3035-4D44-9770-54DD2613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BF4-E57E-4BDB-8B51-3331E481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C72-55C9-4203-B29B-AED6F6F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A0D-6681-457B-83F3-FBADAF01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1DF-E58E-4BF4-9286-280F2CB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126-A736-4781-B3A4-F9DED1E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4F7C-195C-44CD-BBFA-8B73628DAC8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1EF-E304-48E4-BD74-42CFA639B67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vided Kingdom –Part 1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Quarter 6 – Lesson 1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gs.73-7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2 Kings 10-1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ssyrian Emp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 Kingdom Northeast of Isra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apital at Nineveh on the Tigris Ri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halmaneser III – 859BC-824B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rying to get through these little kingdoms to get to Egy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5520" y="1828800"/>
            <a:ext cx="11430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21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6483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neveh: Built by Asshur (Gen 10:11), Nineveh was the dwelling place of Sennacherib the king of Assyria (Isa 37:37) and was the city to whom God instructed Jonah to go and preach (Jonah 1:2; Jonah 3:2-6). It is thought that Nineveh was settled around 6000 B.C. by Asshur (Gen. 10:11). The name "Nineveh" may come from the word "Nina" (river goddess) or "Ninuwa;" the name appears in ancient cuneiform texts as well as in the Bible. The cuneiform symbol for the word is a fish in an encl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372280" cy="4029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019680" cy="4029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00" y="495288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nnacherib praying relief from Ninev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334120"/>
            <a:ext cx="32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nnacherib relief in limestone from Ninev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63520" y="380880"/>
            <a:ext cx="53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nnacherib relief in limestone from Ninev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yria Influence Over Israel &amp; Judah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Juda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thaliah – the Usurper reigns in Juda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Joash – 40 years (evi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ehoiada Executes Athaliah – 2 Kgs.11:1-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vates Joash to the thr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sra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Jehu – forced to pay tribute to Assyria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Hazael begins to cut Israel Short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akes Eastern Side of Jord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5520" y="1828800"/>
            <a:ext cx="11430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00:41:20Z</dcterms:created>
  <dc:creator>Terry W. Benton</dc:creator>
  <dc:description/>
  <dc:language>en-US</dc:language>
  <cp:lastModifiedBy>Frank D Vines</cp:lastModifiedBy>
  <dcterms:modified xsi:type="dcterms:W3CDTF">2005-09-04T04:51:58Z</dcterms:modified>
  <cp:revision>1</cp:revision>
  <dc:subject/>
  <dc:title>Till There Was No Remedy (Divided Kingdom –Part 1)</dc:title>
</cp:coreProperties>
</file>